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22ED-1A83-4964-AB21-2519CF5C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87C-6F57-4C36-B304-8FD563A3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4EF-84FD-4EAC-A986-EB993226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5624-F830-4F4F-AF27-539E43DA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040-8550-4FB4-B289-F1B77954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DE69-7B48-4A1C-AC89-C9B38A85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971-AACA-4860-8C43-8F873EC9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CA0E-3AEF-417D-8854-9DFDE983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0CA6-A32B-4630-AAF6-9D0B9CC1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8F70-1F96-4A9D-B260-92EECE41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093-A73B-4F2F-9476-0695D75F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0546-D8A2-4680-9910-B40B3CC3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E3FA-6353-45DC-B379-BB90AB657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414600" y="2789280"/>
            <a:ext cx="2314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cetorphin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7:05:02Z</dcterms:created>
  <dc:creator>jooho.kim</dc:creator>
  <dc:description/>
  <dc:language>en-US</dc:language>
  <cp:lastModifiedBy>jooho.kim</cp:lastModifiedBy>
  <dcterms:modified xsi:type="dcterms:W3CDTF">2009-11-24T07:05:07Z</dcterms:modified>
  <cp:revision>1</cp:revision>
  <dc:subject/>
  <dc:title>Slide 1</dc:title>
</cp:coreProperties>
</file>